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44B9-F8AF-4C80-A618-C56AA832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38B9-668D-4C3A-945A-AC30DFA5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B197-F52E-4DCA-A66D-0D0C4AA88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1ADD-559F-4EA9-8F72-842F0E549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681B-1C65-4486-8D2D-340482A6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C388-282D-4644-AB1E-3A4C450D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6189-80B9-4EF8-A0B2-568D3245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4797-2762-420A-BBFB-EEE66411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C8E4-611F-40CF-AF4D-32CD45DC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0AB1-12E2-4FAA-8093-F371B36E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87B4-9BDB-449D-BADE-B8D4967E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DFD4-6498-4A99-BDFB-4BFC39F6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E668-5BF9-41E0-B197-117C69494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oolpicsblog.com/wp-content/uploads/2007/07/52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nickjenkins.net/pictures/travel/australia/whitsunday/fish01_std.jpg&amp;imgrefurl=http://www.nickjenkins.net/travel/whitsunday.html&amp;h=533&amp;w=800&amp;sz=31&amp;hl=en&amp;start=56&amp;tbnid=jqxdL4zPp_v5tM:&amp;tbnh=95&amp;tbnw=143&amp;prev=/images%3Fq%3DRainbow%2Bfish%2Bglittering%2Bscale%26start%3D40%26gbv%3D2%26ndsp%3D20%26hl%3Den%26safe%3Dactive%26sa%3DN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hbofamily.com/img/programs/rainbowfish_628x357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7918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r>
              <a:rPr b="0" lang="en-GB" sz="9600" spc="-1" strike="noStrike">
                <a:solidFill>
                  <a:srgbClr val="0066cc"/>
                </a:solidFill>
                <a:latin typeface="Comic Sans MS"/>
              </a:rPr>
              <a:t>Rainbow Fi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000066"/>
                </a:solidFill>
                <a:latin typeface="Comic Sans MS"/>
              </a:rPr>
              <a:t>The most beautiful fish in the oc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Comic Sans MS"/>
              </a:rPr>
              <a:t>Marcus Pf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87640" y="0"/>
            <a:ext cx="3048120" cy="3819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885080" y="76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519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GB" sz="3600" spc="-1" strike="noStrike">
                <a:solidFill>
                  <a:srgbClr val="ff0066"/>
                </a:solidFill>
                <a:latin typeface="Comic Sans MS"/>
              </a:rPr>
              <a:t>Rainbow Fish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wasn’t too sure, but just then he felt the light touch of a fin. It was the little blue fis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5095800" cy="4967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580000" y="2446200"/>
            <a:ext cx="390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400" spc="-1" strike="noStrike">
                <a:solidFill>
                  <a:srgbClr val="ff0066"/>
                </a:solidFill>
                <a:latin typeface="Comic Sans MS"/>
              </a:rPr>
              <a:t>Rainbow Fish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, pleas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please don’t be ang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Please give me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f your scales, j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 small one” Said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little blue 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244000" y="5589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2519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very, very small scale” he thought, “I will hardly miss it.”  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Rainbow fis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arefully pulled off his very smallest glittering scale.  “Here, I’ll give you this on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99964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4" marL="2016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ank you, Thank you very much!”  said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ittle blue fish excitedly. “You ar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kind </a:t>
            </a:r>
            <a:r>
              <a:rPr b="0" lang="en-GB" sz="2400" spc="-1" strike="noStrike">
                <a:solidFill>
                  <a:srgbClr val="ff0066"/>
                </a:solidFill>
                <a:latin typeface="Comic Sans MS"/>
              </a:rPr>
              <a:t>Rainbow fish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0066"/>
                </a:solidFill>
                <a:latin typeface="Comic Sans MS"/>
              </a:rPr>
              <a:t>Rainbow fish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felt quite str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 watched the little blue fish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r a long time as he swam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way with his glittering sca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3500280"/>
            <a:ext cx="316872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on 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Rainbow fis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was surrounded by other fish.  All of them wanted to have a glittering sc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0066"/>
                </a:solidFill>
                <a:latin typeface="Comic Sans MS"/>
              </a:rPr>
              <a:t>Rainbow fis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hared out his scales and felt happier and happier as he did s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782800"/>
            <a:ext cx="4608360" cy="3062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984920" y="3089160"/>
            <a:ext cx="3835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ally </a:t>
            </a:r>
            <a:r>
              <a:rPr b="1" lang="en-GB" sz="2800" spc="-1" strike="noStrike">
                <a:solidFill>
                  <a:srgbClr val="ff0066"/>
                </a:solidFill>
                <a:latin typeface="Comic Sans MS"/>
              </a:rPr>
              <a:t>Rainbow fish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had only one glittering scale left, and he was happier than he had ever b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2519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e on, </a:t>
            </a:r>
            <a:r>
              <a:rPr b="0" lang="en-GB" sz="3200" spc="-1" strike="noStrike">
                <a:solidFill>
                  <a:srgbClr val="ff0066"/>
                </a:solidFill>
                <a:latin typeface="Comic Sans MS"/>
              </a:rPr>
              <a:t>Rainbow fis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come and play with us!” called the others.  “I’m coming!” said </a:t>
            </a:r>
            <a:r>
              <a:rPr b="0" lang="en-GB" sz="3200" spc="-1" strike="noStrike">
                <a:solidFill>
                  <a:srgbClr val="ff0066"/>
                </a:solidFill>
                <a:latin typeface="Comic Sans MS"/>
              </a:rPr>
              <a:t>Rainbow fis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went happily with the other f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4753080" cy="2181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211640" y="3500280"/>
            <a:ext cx="4932360" cy="3287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8028000" y="227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251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mewhere in the deepest sea there lived a fish, he was the most beautiful fish in the entire ocean. He was rainbow colo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5862600" cy="5229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31708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6594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e other fish admired his colourful scales and called him  </a:t>
            </a:r>
            <a:r>
              <a:rPr b="0" lang="en-GB" sz="4000" spc="-1" strike="noStrike">
                <a:solidFill>
                  <a:srgbClr val="ff0066"/>
                </a:solidFill>
                <a:latin typeface="Comic Sans MS"/>
              </a:rPr>
              <a:t>Rainbow F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752480"/>
            <a:ext cx="7777080" cy="4429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6594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ome and play with us, </a:t>
            </a:r>
            <a:r>
              <a:rPr b="0" lang="en-GB" sz="3600" spc="-1" strike="noStrike">
                <a:solidFill>
                  <a:srgbClr val="ff0066"/>
                </a:solidFill>
                <a:latin typeface="Comic Sans MS"/>
              </a:rPr>
              <a:t>Rainbow Fish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ut the 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Rainbow Fis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was proud and swam p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501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Little blue fish swam behind him.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Rainbow Fis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wait for me! Please give me one of your scales, they are beautiful and you have so man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4428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Give you one of my scales, What are you thinking, get away from me” Cried the </a:t>
            </a:r>
            <a:r>
              <a:rPr b="1" lang="en-GB" sz="2400" spc="-1" strike="noStrike">
                <a:solidFill>
                  <a:srgbClr val="ff0066"/>
                </a:solidFill>
                <a:latin typeface="Comic Sans MS"/>
              </a:rPr>
              <a:t>Rainbow 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5040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GB" sz="3200" spc="-1" strike="noStrike">
                <a:solidFill>
                  <a:srgbClr val="0066cc"/>
                </a:solidFill>
                <a:latin typeface="Comic Sans MS"/>
              </a:rPr>
              <a:t>blue fis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wam away, he was still upset and told all his friends. From then on nobody wanted to be with the </a:t>
            </a:r>
            <a:r>
              <a:rPr b="0" lang="en-GB" sz="3200" spc="-1" strike="noStrike">
                <a:solidFill>
                  <a:srgbClr val="ff0066"/>
                </a:solidFill>
                <a:latin typeface="Comic Sans MS"/>
              </a:rPr>
              <a:t>Rainbow F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7632720" cy="4356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71640" y="6035760"/>
            <a:ext cx="563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66"/>
                </a:solidFill>
                <a:latin typeface="Comic Sans MS"/>
              </a:rPr>
              <a:t>The Rainbow Fish was all al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2519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use were </a:t>
            </a:r>
            <a:r>
              <a:rPr b="0" lang="en-GB" sz="3200" spc="-1" strike="noStrike">
                <a:solidFill>
                  <a:srgbClr val="ff0066"/>
                </a:solidFill>
                <a:latin typeface="Comic Sans MS"/>
              </a:rPr>
              <a:t>Rainbow Fish’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beautiful scales if nobody wanted to be with him. He was the loneliest fish in the oc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7777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day he told his sorrows to a star fish. “I’m so beautiful why doesn’t anyone like m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416720" cy="424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71640" y="6021360"/>
            <a:ext cx="72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cc"/>
                </a:solidFill>
                <a:latin typeface="Comic Sans MS"/>
              </a:rPr>
              <a:t>“</a:t>
            </a:r>
            <a:r>
              <a:rPr b="1" lang="en-GB" sz="2000" spc="-1" strike="noStrike">
                <a:solidFill>
                  <a:srgbClr val="0066cc"/>
                </a:solidFill>
                <a:latin typeface="Comic Sans MS"/>
              </a:rPr>
              <a:t>In a cave behind the coral reef lives a wise octopus. Perhaps he can you help you” Said the starf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2519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Rainbow fis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found the cave. It was very dark, but suddenly he saw two glowing ey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“I have been expecting you, the waves have told me you story” said the </a:t>
            </a:r>
            <a:r>
              <a:rPr b="0" lang="en-GB" sz="2800" spc="-1" strike="noStrike">
                <a:solidFill>
                  <a:srgbClr val="ff9933"/>
                </a:solidFill>
                <a:latin typeface="Comic Sans MS"/>
              </a:rPr>
              <a:t>octopus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6769080" cy="5084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164360" y="2565360"/>
            <a:ext cx="2552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cc"/>
                </a:solidFill>
                <a:latin typeface="Comic Sans MS"/>
              </a:rPr>
              <a:t>“</a:t>
            </a:r>
            <a:r>
              <a:rPr b="1" lang="en-GB" sz="1800" spc="-1" strike="noStrike">
                <a:solidFill>
                  <a:srgbClr val="0066cc"/>
                </a:solidFill>
                <a:latin typeface="Comic Sans MS"/>
              </a:rPr>
              <a:t>Give each fis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cc"/>
                </a:solidFill>
                <a:latin typeface="Comic Sans MS"/>
              </a:rPr>
              <a:t>One of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cc"/>
                </a:solidFill>
                <a:latin typeface="Comic Sans MS"/>
              </a:rPr>
              <a:t>scales then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cc"/>
                </a:solidFill>
                <a:latin typeface="Comic Sans MS"/>
              </a:rPr>
              <a:t>may not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cc"/>
                </a:solidFill>
                <a:latin typeface="Comic Sans MS"/>
              </a:rPr>
              <a:t>the 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cc"/>
                </a:solidFill>
                <a:latin typeface="Comic Sans MS"/>
              </a:rPr>
              <a:t>Beautiful fis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cc"/>
                </a:solidFill>
                <a:latin typeface="Comic Sans MS"/>
              </a:rPr>
              <a:t>but you will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cc"/>
                </a:solidFill>
                <a:latin typeface="Comic Sans MS"/>
              </a:rPr>
              <a:t>happy again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cc"/>
                </a:solidFill>
                <a:latin typeface="Comic Sans MS"/>
              </a:rPr>
              <a:t>said the</a:t>
            </a:r>
            <a:r>
              <a:rPr b="1" lang="en-GB" sz="1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GB" sz="1800" spc="-1" strike="noStrike">
                <a:solidFill>
                  <a:srgbClr val="ff9933"/>
                </a:solidFill>
                <a:latin typeface="Comic Sans MS"/>
              </a:rPr>
              <a:t>w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33"/>
                </a:solidFill>
                <a:latin typeface="Comic Sans MS"/>
              </a:rPr>
              <a:t>octopus</a:t>
            </a:r>
            <a:r>
              <a:rPr b="1" lang="en-GB" sz="18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07:59:44Z</dcterms:created>
  <dc:creator>Becky Rollings</dc:creator>
  <dc:description/>
  <dc:language>en-US</dc:language>
  <cp:lastModifiedBy>Cynthia</cp:lastModifiedBy>
  <dcterms:modified xsi:type="dcterms:W3CDTF">2010-09-05T20:37:54Z</dcterms:modified>
  <cp:revision>12</cp:revision>
  <dc:subject/>
  <dc:title>  Rainbow Fish</dc:title>
</cp:coreProperties>
</file>